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359424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0103"/>
                </a:solidFill>
                <a:latin typeface="Bitstream Vera Sans"/>
              </a:rPr>
              <a:t>Click to move the slide</a:t>
            </a:r>
            <a:endParaRPr b="1" lang="en-US" sz="3200" spc="-1" strike="noStrike">
              <a:solidFill>
                <a:srgbClr val="010103"/>
              </a:solidFill>
              <a:latin typeface="Bitstream Ver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503280" y="4316400"/>
            <a:ext cx="585144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0" y="0"/>
            <a:ext cx="3598920" cy="359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body"/>
          </p:nvPr>
        </p:nvSpPr>
        <p:spPr>
          <a:xfrm>
            <a:off x="502920" y="4316040"/>
            <a:ext cx="585324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240" y="435888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448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576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492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3624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576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9492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36240" y="1636560"/>
            <a:ext cx="940284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940284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83920" y="-360"/>
            <a:ext cx="63118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36240" y="1636560"/>
            <a:ext cx="940284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5448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240" y="435888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5448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1576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94920" y="163656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3624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1576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94920" y="4358880"/>
            <a:ext cx="302760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940284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83920" y="-360"/>
            <a:ext cx="631188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7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4480" y="435888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624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4480" y="1636560"/>
            <a:ext cx="458856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240" y="4358880"/>
            <a:ext cx="9402840" cy="24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7000"/>
              </a:lnSpc>
              <a:spcBef>
                <a:spcPts val="64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886880" y="208080"/>
            <a:ext cx="1930320" cy="1095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98480" y="1185840"/>
            <a:ext cx="6027840" cy="133200"/>
          </a:xfrm>
          <a:prstGeom prst="roundRect">
            <a:avLst>
              <a:gd name="adj" fmla="val 1190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276120" y="208080"/>
            <a:ext cx="1008000" cy="119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83920" y="-360"/>
            <a:ext cx="6311880" cy="11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80"/>
                </a:solidFill>
                <a:latin typeface="Bitstream Vera Sans"/>
              </a:rPr>
              <a:t>Click to edit the title text forma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36240" y="1636560"/>
            <a:ext cx="9402840" cy="521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7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Click to edit the outline text forma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7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Second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7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Third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3" marL="1708200" indent="-228600">
              <a:lnSpc>
                <a:spcPct val="107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Fourth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4" marL="2057400" indent="-228600">
              <a:lnSpc>
                <a:spcPct val="107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Fifth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5" marL="2057400" indent="-228600">
              <a:lnSpc>
                <a:spcPct val="10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Sixth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6" marL="2057400" indent="-228600">
              <a:lnSpc>
                <a:spcPct val="107000"/>
              </a:lnSpc>
              <a:spcBef>
                <a:spcPts val="6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Bitstream Vera Sans"/>
              </a:rPr>
              <a:t>Seventh Outline Level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" name=""/>
          <p:cNvSpPr/>
          <p:nvPr/>
        </p:nvSpPr>
        <p:spPr>
          <a:xfrm>
            <a:off x="3603600" y="6972480"/>
            <a:ext cx="3192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54200" y="7256520"/>
            <a:ext cx="2222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0c0c0"/>
                </a:solidFill>
                <a:latin typeface="Bitstream Vera Sans"/>
              </a:rPr>
              <a:t>Rob van Nieuwpoor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1398600"/>
            <a:ext cx="10080720" cy="5238720"/>
            <a:chOff x="0" y="1398600"/>
            <a:chExt cx="10080720" cy="5238720"/>
          </a:xfrm>
        </p:grpSpPr>
        <p:sp>
          <p:nvSpPr>
            <p:cNvPr id="44" name=""/>
            <p:cNvSpPr/>
            <p:nvPr/>
          </p:nvSpPr>
          <p:spPr>
            <a:xfrm>
              <a:off x="0" y="1398600"/>
              <a:ext cx="10080720" cy="5238720"/>
            </a:xfrm>
            <a:prstGeom prst="roundRect">
              <a:avLst>
                <a:gd name="adj" fmla="val 2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399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398600"/>
              <a:ext cx="10080720" cy="523872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41076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5b5249"/>
                  </a:solidFill>
                  <a:latin typeface="Comic Sans MS"/>
                  <a:ea typeface="ＭＳ Ｐゴシック"/>
                </a:rPr>
                <a:t> 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0" y="6637320"/>
            <a:ext cx="10080720" cy="92232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3399e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10080720" cy="1398600"/>
          </a:xfrm>
          <a:prstGeom prst="roundRect">
            <a:avLst>
              <a:gd name="adj" fmla="val 11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977240" y="287280"/>
            <a:ext cx="1930320" cy="1095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89200" y="1265400"/>
            <a:ext cx="6027480" cy="133200"/>
          </a:xfrm>
          <a:prstGeom prst="roundRect">
            <a:avLst>
              <a:gd name="adj" fmla="val 1190"/>
            </a:avLst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5040" y="287280"/>
            <a:ext cx="1008000" cy="119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52760" y="7054920"/>
            <a:ext cx="3192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06400" y="1716120"/>
            <a:ext cx="6270840" cy="755640"/>
          </a:xfrm>
          <a:prstGeom prst="roundRect">
            <a:avLst>
              <a:gd name="adj" fmla="val 2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4200" y="7256520"/>
            <a:ext cx="2222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8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10103"/>
                </a:solidFill>
                <a:latin typeface="Bitstream Vera Sans"/>
              </a:rPr>
              <a:t>Rob van Nieuwpoor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800" y="627120"/>
            <a:ext cx="86025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10103"/>
                </a:solidFill>
                <a:latin typeface="Bitstream Vera Sans"/>
              </a:rPr>
              <a:t>Click to edit the title text format</a:t>
            </a:r>
            <a:endParaRPr b="1" lang="en-US" sz="3200" spc="-1" strike="noStrike">
              <a:solidFill>
                <a:srgbClr val="010103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39800" y="2101680"/>
            <a:ext cx="86025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7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2400" indent="-452520">
              <a:lnSpc>
                <a:spcPct val="107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5120" indent="-228600">
              <a:lnSpc>
                <a:spcPct val="107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8200" indent="-228600">
              <a:lnSpc>
                <a:spcPct val="107000"/>
              </a:lnSpc>
              <a:spcBef>
                <a:spcPts val="64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7000"/>
              </a:lnSpc>
              <a:spcBef>
                <a:spcPts val="64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07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07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http://www.gridlab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77880" y="0"/>
            <a:ext cx="3554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10103"/>
                </a:solidFill>
                <a:latin typeface="Bitstream Vera Sans"/>
              </a:rPr>
              <a:t>GAT Tutorial</a:t>
            </a:r>
            <a:endParaRPr b="1" lang="en-US" sz="3200" spc="-1" strike="noStrike">
              <a:solidFill>
                <a:srgbClr val="010103"/>
              </a:solidFill>
              <a:latin typeface="Bitstream Vera Sans"/>
            </a:endParaRPr>
          </a:p>
        </p:txBody>
      </p:sp>
      <p:sp>
        <p:nvSpPr>
          <p:cNvPr id="98" name=""/>
          <p:cNvSpPr/>
          <p:nvPr/>
        </p:nvSpPr>
        <p:spPr>
          <a:xfrm>
            <a:off x="1546200" y="2306520"/>
            <a:ext cx="64292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10103"/>
                </a:solidFill>
                <a:latin typeface="Bitstream Vera Sans"/>
              </a:rPr>
              <a:t>Getting started with the Grid Application Toolk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0080" y="3699000"/>
            <a:ext cx="2303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10103"/>
                </a:solidFill>
                <a:latin typeface="Bitstream Vera Sans"/>
              </a:rPr>
              <a:t>Rob van Nieuwpoor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13000" y="4095720"/>
            <a:ext cx="3095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10103"/>
                </a:solidFill>
                <a:latin typeface="Bitstream Vera Sans"/>
              </a:rPr>
              <a:t>rob@cs.vu.nl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71760" y="4876920"/>
            <a:ext cx="27781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8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10103"/>
                </a:solidFill>
                <a:latin typeface="Bitstream Vera Sans"/>
                <a:ea typeface="ＭＳ Ｐゴシック"/>
              </a:rPr>
              <a:t>Vrije Universiteit Amsterda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23120" y="5056200"/>
            <a:ext cx="1301760" cy="156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65040" y="5086440"/>
            <a:ext cx="1608120" cy="1511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016080" y="5672160"/>
            <a:ext cx="400536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46240" y="3187800"/>
            <a:ext cx="10666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quirements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Java 1.5 or new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ownload at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"/>
              </a:rPr>
              <a:t>java.sun.com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Ant 1.6 or new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Java's equivalent of “make”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ownload at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"/>
              </a:rPr>
              <a:t>ant.apache.org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he Java GA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www.gridlab.or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lick on Grid Application Toolki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lick on GAT releases (on the left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ownload latest Java GAT vers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ntar / unzip it in any place you lik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Building the JavaGA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o to the </a:t>
            </a: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JavaGAT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 director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ype </a:t>
            </a:r>
            <a:r>
              <a:rPr b="1" lang="en-GB" sz="2600" spc="-1" strike="noStrike">
                <a:solidFill>
                  <a:srgbClr val="ff0000"/>
                </a:solidFill>
                <a:latin typeface="Bitstream Vera Sans Mono"/>
              </a:rPr>
              <a:t>a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is takes about 10 second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engine, adaptors and all examples are now compile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est it: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7" name=""/>
          <p:cNvSpPr/>
          <p:nvPr/>
        </p:nvSpPr>
        <p:spPr>
          <a:xfrm>
            <a:off x="193680" y="4114800"/>
            <a:ext cx="9698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bin/run_gat_app tutorial.RemoteCat http://www.cs.vu.nl/~rob/hello.tx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35080" y="5257800"/>
            <a:ext cx="10239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13472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bin\run_gat_app.bat tutorial.RemoteCat http://www.cs.vu.nl/~rob/hello.txt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66760" y="4605480"/>
            <a:ext cx="6148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Or (on window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Capability Provider Interface (CPI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objects are Java interfac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Below the API level, the GAT Engine provides CPI classes (Capability Provider Interface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PI classes implement the GAT object interfa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ll methods in the CPI classes throw excep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PI classes provide additional generic cod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aptors extend a CPI clas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l in some or all method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ate binding: if a method is not implemented GAT selects another adapto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daptor Class Hierarchy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903" name=""/>
          <p:cNvSpPr/>
          <p:nvPr/>
        </p:nvSpPr>
        <p:spPr>
          <a:xfrm>
            <a:off x="2859120" y="1592280"/>
            <a:ext cx="4400640" cy="1392120"/>
          </a:xfrm>
          <a:prstGeom prst="rect">
            <a:avLst/>
          </a:prstGeom>
          <a:solidFill>
            <a:srgbClr val="00ff00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GAT File API interfa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Used by GAT applica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programmer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901960" y="3478320"/>
            <a:ext cx="4299120" cy="1449360"/>
          </a:xfrm>
          <a:prstGeom prst="rect">
            <a:avLst/>
          </a:prstGeom>
          <a:solidFill>
            <a:srgbClr val="99ccff">
              <a:alpha val="50000"/>
            </a:srgbClr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FileCPI clas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implements Fil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provided by GAT engi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76200" y="5834160"/>
            <a:ext cx="4299120" cy="1392120"/>
          </a:xfrm>
          <a:prstGeom prst="rect">
            <a:avLst/>
          </a:prstGeom>
          <a:solidFill>
            <a:srgbClr val="ffff99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LocalFileAdaptor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extends FileCPI clas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(implements File)</a:t>
            </a: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83280" y="5819760"/>
            <a:ext cx="4298760" cy="1392120"/>
          </a:xfrm>
          <a:prstGeom prst="rect">
            <a:avLst/>
          </a:prstGeom>
          <a:solidFill>
            <a:srgbClr val="ffff99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SSHFileAdaptor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extends FileCPI clas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(implements File)</a:t>
            </a:r>
            <a:r>
              <a:rPr b="0" lang="en-GB" sz="2200" spc="-1" strike="noStrike">
                <a:solidFill>
                  <a:srgbClr val="808080"/>
                </a:solidFill>
                <a:latin typeface="Bitstream Vera Sans Mono"/>
                <a:ea typeface="msmincho"/>
              </a:rPr>
              <a:t>‏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4994280" y="2997000"/>
            <a:ext cx="14400" cy="47124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2352600" y="4973400"/>
            <a:ext cx="2468520" cy="78876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4930560" y="4973400"/>
            <a:ext cx="2361960" cy="80316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0" y="3262320"/>
            <a:ext cx="10080720" cy="1440"/>
          </a:xfrm>
          <a:prstGeom prst="line">
            <a:avLst/>
          </a:prstGeom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080" y="2530440"/>
            <a:ext cx="212076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User spa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265560"/>
            <a:ext cx="2583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Adaptor spa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59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6240" y="3187800"/>
            <a:ext cx="10666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46240" y="3187800"/>
            <a:ext cx="10666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120" y="3470400"/>
            <a:ext cx="1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600" y="4944960"/>
            <a:ext cx="9407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706400" y="0"/>
            <a:ext cx="5953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46240" y="3189240"/>
            <a:ext cx="10666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120" y="3471840"/>
            <a:ext cx="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6600" y="4944960"/>
            <a:ext cx="9407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ight not be available on all sit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06400" y="0"/>
            <a:ext cx="5953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46240" y="3189240"/>
            <a:ext cx="10666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8120" y="3471840"/>
            <a:ext cx="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4944960"/>
            <a:ext cx="9407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ight not be available on all sit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ay not work for all users (certificate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06400" y="0"/>
            <a:ext cx="5953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6240" y="3189240"/>
            <a:ext cx="10666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120" y="3471840"/>
            <a:ext cx="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600" y="4944960"/>
            <a:ext cx="940752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ight not be available on all sit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ay not work for all users (certificate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Version differences (Globus changes every 2 month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06400" y="0"/>
            <a:ext cx="5953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46240" y="3189240"/>
            <a:ext cx="10666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120" y="3471840"/>
            <a:ext cx="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6600" y="4944960"/>
            <a:ext cx="94075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ight not be available on all sit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ay not work for all users (certificate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Version differences (Globus changes every 2 month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xponential number of combinations!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706400" y="0"/>
            <a:ext cx="59533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832880" y="2340000"/>
            <a:ext cx="66024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46240" y="3189240"/>
            <a:ext cx="1066680" cy="17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ht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1680" y="3122640"/>
            <a:ext cx="10670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or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pb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ond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unicor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10320" y="3084480"/>
            <a:ext cx="1471680" cy="1536840"/>
          </a:xfrm>
          <a:custGeom>
            <a:avLst/>
            <a:gdLst>
              <a:gd name="textAreaLeft" fmla="*/ 360 w 1471680"/>
              <a:gd name="textAreaRight" fmla="*/ 1471320 w 147168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56">
                <a:moveTo>
                  <a:pt x="23" y="0"/>
                </a:moveTo>
                <a:arcTo wR="23" hR="23" stAng="16200000" swAng="-5400000"/>
                <a:lnTo>
                  <a:pt x="0" y="22533"/>
                </a:lnTo>
                <a:arcTo wR="23" hR="23" stAng="10800000" swAng="-5400000"/>
                <a:lnTo>
                  <a:pt x="21577" y="22556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73360" y="3197160"/>
            <a:ext cx="1471320" cy="1536840"/>
          </a:xfrm>
          <a:custGeom>
            <a:avLst/>
            <a:gdLst>
              <a:gd name="textAreaLeft" fmla="*/ 360 w 1471320"/>
              <a:gd name="textAreaRight" fmla="*/ 1470960 w 1471320"/>
              <a:gd name="textAreaTop" fmla="*/ 360 h 1536840"/>
              <a:gd name="textAreaBottom" fmla="*/ 1536480 h 1536840"/>
            </a:gdLst>
            <a:ahLst/>
            <a:rect l="textAreaLeft" t="textAreaTop" r="textAreaRight" b="textAreaBottom"/>
            <a:pathLst>
              <a:path w="21600" h="22562">
                <a:moveTo>
                  <a:pt x="23" y="0"/>
                </a:moveTo>
                <a:arcTo wR="23" hR="23" stAng="16200000" swAng="-5400000"/>
                <a:lnTo>
                  <a:pt x="0" y="22539"/>
                </a:lnTo>
                <a:arcTo wR="23" hR="23" stAng="10800000" swAng="-5400000"/>
                <a:lnTo>
                  <a:pt x="21577" y="22562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ff">
              <a:alpha val="50000"/>
            </a:srgbClr>
          </a:solidFill>
          <a:ln w="547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8120" y="3471840"/>
            <a:ext cx="1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4360" y="5159520"/>
            <a:ext cx="8543880" cy="2158920"/>
          </a:xfrm>
          <a:prstGeom prst="roundRect">
            <a:avLst>
              <a:gd name="adj" fmla="val 6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6600" y="4944960"/>
            <a:ext cx="94075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ich should you use?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ight not be available on all sit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me may not work for all users (certificate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Version differences (Globus changes every 2 months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xponential number of combinations!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21120000">
            <a:off x="414000" y="5113440"/>
            <a:ext cx="8543880" cy="2158920"/>
          </a:xfrm>
          <a:prstGeom prst="roundRect">
            <a:avLst>
              <a:gd name="adj" fmla="val 6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 Black"/>
              </a:rPr>
              <a:t>Not portable!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lobus File copy (C++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05440" y="2070000"/>
            <a:ext cx="4856040" cy="4718160"/>
            <a:chOff x="5005440" y="2070000"/>
            <a:chExt cx="4856040" cy="4718160"/>
          </a:xfrm>
        </p:grpSpPr>
        <p:sp>
          <p:nvSpPr>
            <p:cNvPr id="256" name=""/>
            <p:cNvSpPr/>
            <p:nvPr/>
          </p:nvSpPr>
          <p:spPr>
            <a:xfrm>
              <a:off x="5005440" y="2070000"/>
              <a:ext cx="4856040" cy="47181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05440" y="2195640"/>
              <a:ext cx="485604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source_url.scheme_type == GLOBUS_URL_SCHEME_GSIFTP ||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ource_url.scheme_type == GLOBUS_URL_SCHEME_FTP    ) {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ftp_client_operationattr_init (&amp;source_ftp_attr);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attr_set_ftp (&amp;source_gass_copy_attr,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source_ftp_attr);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else {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transfer_requestattr_init (&amp;source_gass_attr,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ource_url.scheme);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attr_set_gass(&amp;source_gass_copy_attr,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source_gass_attr);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output_file = globus_libc_open ((char*) target,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O_WRONLY | O_TRUNC | O_CREAT,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_IRUSR  | S_IWUSR | S_IRGRP |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_IWGRP);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 output_file == -1 ) {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rintf ("could not open the file \"%s\"\n", target);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-1);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/* convert stdout to be a globus_io_handle */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 globus_io_file_posix_convert (output_file, 0,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dest_io_handle)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!= GLOBUS_SUCCESS) {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rintf ("Error converting the file handle\n"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-1);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sult = globus_gass_copy_register_url_to_handle (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gass_copy_handle, (char*)source_URL,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source_gass_copy_attr, &amp;dest_io_handle,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y_callback, NULL);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 result != GLOBUS_SUCCESS ) {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rintf ("error: %s\n", globus_object_printable_to_string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globus_error_get (result)));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-1);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url_destroy  (&amp;source_url);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0);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922320" y="2224080"/>
            <a:ext cx="4681440" cy="4808520"/>
            <a:chOff x="922320" y="2224080"/>
            <a:chExt cx="4681440" cy="4808520"/>
          </a:xfrm>
        </p:grpSpPr>
        <p:sp>
          <p:nvSpPr>
            <p:cNvPr id="259" name=""/>
            <p:cNvSpPr/>
            <p:nvPr/>
          </p:nvSpPr>
          <p:spPr>
            <a:xfrm>
              <a:off x="922320" y="2224080"/>
              <a:ext cx="4681440" cy="4170240"/>
            </a:xfrm>
            <a:prstGeom prst="roundRect">
              <a:avLst>
                <a:gd name="adj" fmla="val 3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2320" y="2224080"/>
              <a:ext cx="4681440" cy="48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nt RemoteFile::GetFile (char const* source,   char const* target) {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url_t                       source_url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io_handle_t                 dest_io_handle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ftp_client_operationattr_t  source_ftp_attr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result_t                    result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transfer_requestattr_t source_gass_attr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attr_t            source_gass_copy_attr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handle_t          gass_copy_handle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handleattr_t      gass_copy_handleattr;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ftp_client_handleattr_t     ftp_handleattr;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io_attr_t                   io_attr;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nt                                output_file = -1;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 globus_url_parse (source_URL, &amp;source_url) != GLOBUS_SUCCESS ) {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rintf ("can not parse source_URL \"%s\"\n", source_URL);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-1);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 source_url.scheme_type != GLOBUS_URL_SCHEME_GSIFTP &amp;&amp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ource_url.scheme_type != GLOBUS_URL_SCHEME_FTP    &amp;&amp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ource_url.scheme_type != GLOBUS_URL_SCHEME_HTTP   &amp;&amp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ource_url.scheme_type != GLOBUS_URL_SCHEME_HTTPS  ) {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rintf ("can not copy from %s - wrong prot\n", source_URL);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turn (-1);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handleattr_init  (&amp;gass_copy_handleattr)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attr_init        (&amp;source_gass_copy_attr);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ftp_client_handleattr_init (&amp;ftp_handleattr);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io_fileattr_init           (&amp;io_attr);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attr_set_io      (&amp;source_gass_copy_attr, &amp;io_attr)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io_attr);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handleattr_set_ftp_attr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&amp;gass_copy_handleattr,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ftp_handleattr);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lobus_gass_copy_handle_init      (&amp;gass_copy_handle,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&amp;gass_copy_handleattr)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4000"/>
                </a:lnSpc>
                <a:spcBef>
                  <a:spcPts val="1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28480" y="1440000"/>
            <a:ext cx="8531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8480" y="6159600"/>
            <a:ext cx="85312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8480" y="1440000"/>
            <a:ext cx="1800" cy="471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94120" y="1440000"/>
            <a:ext cx="1800" cy="471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59760" y="1440000"/>
            <a:ext cx="1800" cy="471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CoG/RFT File copy (C++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497560" y="1695600"/>
            <a:ext cx="4892760" cy="4946400"/>
            <a:chOff x="5497560" y="1695600"/>
            <a:chExt cx="4892760" cy="4946400"/>
          </a:xfrm>
        </p:grpSpPr>
        <p:sp>
          <p:nvSpPr>
            <p:cNvPr id="268" name=""/>
            <p:cNvSpPr/>
            <p:nvPr/>
          </p:nvSpPr>
          <p:spPr>
            <a:xfrm>
              <a:off x="5497560" y="1695600"/>
              <a:ext cx="4892760" cy="4946400"/>
            </a:xfrm>
            <a:custGeom>
              <a:avLst/>
              <a:gdLst>
                <a:gd name="textAreaLeft" fmla="*/ 360 w 4892760"/>
                <a:gd name="textAreaRight" fmla="*/ 4892400 w 4892760"/>
                <a:gd name="textAreaTop" fmla="*/ 360 h 4946400"/>
                <a:gd name="textAreaBottom" fmla="*/ 4946040 h 4946400"/>
              </a:gdLst>
              <a:ahLst/>
              <a:rect l="textAreaLeft" t="textAreaTop" r="textAreaRight" b="textAreaBottom"/>
              <a:pathLst>
                <a:path w="21600" h="21837">
                  <a:moveTo>
                    <a:pt x="7" y="0"/>
                  </a:moveTo>
                  <a:arcTo wR="7" hR="7" stAng="16200000" swAng="-5400000"/>
                  <a:lnTo>
                    <a:pt x="0" y="21830"/>
                  </a:lnTo>
                  <a:arcTo wR="7" hR="7" stAng="10800000" swAng="-5400000"/>
                  <a:lnTo>
                    <a:pt x="21593" y="21837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7560" y="1695600"/>
              <a:ext cx="4892760" cy="49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RequestType transferRequest = new TransferRequestType ();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Request.setTransferArray (transfers1);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nt concurrency = Integer.valueOf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(String)requestData.elementAt(6)).intValue();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f (concurrency &gt; transfers1.length)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{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ystem.out.println ("Concurrency should be less than the number"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"of transfers in the request");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ystem.exit (0);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Request.setConcurrency (concurrency);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RequestElement requestElement = new TransferRequestElement ();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questElement.setTransferRequest (transferRequest);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ExtensibilityType extension = new ExtensibilityType ();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extension = AnyHelper.getExtensibility (requestElement);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OGSIServiceGridLocator factoryService = new OGSIServiceGridLocator ();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Factory factory = factoryService.getFactoryPort (new URL (source_url))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ridServiceFactory gridFactory = new GridServiceFactory (factory);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LocatorType locator = gridFactory.createService (extension)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ystem.out.println ("Created an instance of Multi-RFT");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FileRFTDefinitionServiceGridLocator loc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= new MultiFileRFTDefinitionServiceGridLocator();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FTPortType rftPort = loc.getMultiFileRFTDefinitionPort (locator);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(Stub)rftPort)._setProperty (Constants.AUTHORIZATION,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NoAuthorization.getInstance());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(Stub)rftPort)._setProperty (GSIConstants.GSI_MODE,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GSIConstants.GSI_MODE_FULL_DELEG);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(Stub)rftPort)._setProperty (Constants.GSI_SEC_CONV,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Constants.SIGNATURE);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(Stub)rftPort)._setProperty (Constants.GRIM_POLICY_HANDLER,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new IgnoreProxyPolicyHandler ());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nt requestid = rftPort.start ();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ystem.out.println ("Request id: " + requestid);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catch (Exception e)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{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System.err.println (MessageUtils.toString (e));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01560" y="1695600"/>
            <a:ext cx="4892760" cy="5414760"/>
            <a:chOff x="601560" y="1695600"/>
            <a:chExt cx="4892760" cy="5414760"/>
          </a:xfrm>
        </p:grpSpPr>
        <p:sp>
          <p:nvSpPr>
            <p:cNvPr id="271" name=""/>
            <p:cNvSpPr/>
            <p:nvPr/>
          </p:nvSpPr>
          <p:spPr>
            <a:xfrm>
              <a:off x="601560" y="1695600"/>
              <a:ext cx="4892760" cy="4946400"/>
            </a:xfrm>
            <a:custGeom>
              <a:avLst/>
              <a:gdLst>
                <a:gd name="textAreaLeft" fmla="*/ 360 w 4892760"/>
                <a:gd name="textAreaRight" fmla="*/ 4892400 w 4892760"/>
                <a:gd name="textAreaTop" fmla="*/ 360 h 4946400"/>
                <a:gd name="textAreaBottom" fmla="*/ 4946040 h 4946400"/>
              </a:gdLst>
              <a:ahLst/>
              <a:rect l="textAreaLeft" t="textAreaTop" r="textAreaRight" b="textAreaBottom"/>
              <a:pathLst>
                <a:path w="21600" h="21837">
                  <a:moveTo>
                    <a:pt x="7" y="0"/>
                  </a:moveTo>
                  <a:arcTo wR="7" hR="7" stAng="16200000" swAng="-5400000"/>
                  <a:lnTo>
                    <a:pt x="0" y="21830"/>
                  </a:lnTo>
                  <a:arcTo wR="7" hR="7" stAng="10800000" swAng="-5400000"/>
                  <a:lnTo>
                    <a:pt x="21593" y="21837"/>
                  </a:lnTo>
                  <a:arcTo wR="7" hR="7" stAng="5400000" swAng="-5400000"/>
                  <a:lnTo>
                    <a:pt x="21600" y="7"/>
                  </a:lnTo>
                  <a:arcTo wR="7" hR="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8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560" y="1695600"/>
              <a:ext cx="4892760" cy="54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8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ackage org.globus.ogsa.gui;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io.BufferedReader;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io.File;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io.FileReader;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net.URL;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util.Date;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.util.Vector;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javax.xml.rpc.Stub;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apache.axis.message.MessageElement;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apache.axis.utils.XMLUtils;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globus.*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gridforum.ogsi.*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gridforum.ogsi.holders.TerminationTimeTypeHolder;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w3c.dom.Document;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mport org.w3c.dom.Element;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ublic class RFTClient {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public static void copy (String source_url, String target_url) {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y {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File requestFile      = new File (source_url);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BufferedReader reader = null;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y {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ader = new BufferedReader (new FileReader (requestFile));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 catch (java.io.FileNotFoundException fnfe) { }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Vector requestData = new Vector ();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equestData.add (target_url);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Type[] transfers1      = new TransferType[transferCount];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RFTOptionsType multirftOptions = new RFTOptionsType ();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Binary           (Boolean.valueOf  (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0)).booleanValue ()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BlockSize        (Integer.valueOf  (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1)).intValue     ()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TcpBufferSize    (Integer.valueOf  (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2)).intValue     ()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Notpt            (Boolean.valueOf  (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3)).booleanValue ()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ParallelStreams  (Integer.valueOf  (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4)).intValue     ());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multirftOptions.setDcau(Boolean.valueOf(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(String)requestData.elementAt (5)).booleanValue ());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int i = 7;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for (int j = 0; j &lt; transfers1.length; j++)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{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s1[j] = new TransferType ();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                                    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s1[j].setTransferId     (j);                                  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s1[j].setSourceUrl      ((String)requestData.elementAt (i++))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s1[j].setDestinationUrl ((String)requestData.elementAt (i++))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 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transfers1[j].setRftOptions     (multirftOptions);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 </a:t>
              </a:r>
              <a:r>
                <a:rPr b="0" lang="en-GB" sz="500" spc="-1" strike="noStrike">
                  <a:solidFill>
                    <a:srgbClr val="000000"/>
                  </a:solidFill>
                  <a:latin typeface="Bitstream Vera Sans Mono"/>
                </a:rPr>
                <a:t>}</a:t>
              </a: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09000"/>
                </a:lnSpc>
                <a:spcBef>
                  <a:spcPts val="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5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1560" y="1695600"/>
            <a:ext cx="48942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1560" y="6643800"/>
            <a:ext cx="48942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1560" y="1695600"/>
            <a:ext cx="1800" cy="4948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391760" y="1695600"/>
            <a:ext cx="1440" cy="4948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97560" y="1695600"/>
            <a:ext cx="48942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97560" y="6643800"/>
            <a:ext cx="48942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hy GAT?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he situation today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s: everywher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 applications: nowher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hy is this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Application programmers accept the Grid as a computing paradigm only very slowly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roblems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Interfaces are NOT simp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ortability / interoperabilit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ifferent and evolving interfaces to the ’Grid’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Environment changes in many way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WSDL and web services do not solve all these problem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hat is GAT?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: Grid Application Toolki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PI and Toolkit for developing and running portable grid applications independently of the underlying grid infrastructure and available servi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is used by applications to access grid servic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Simple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 API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Adaptors (“plugins”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nnect GAT to grid servi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llow for multiple providers (Globus, SGE, Glite, …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Engin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vides runtime delegation of GAT-API calls to adaptor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Philosophy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does not aim to replace existing “grid infrastructure.”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aims to provide a simple, clear interface to many different infrastructur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WS-GR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SH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FTP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…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Open source, BSD-like licen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Philosophy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4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s make GAT-API calls for grid operation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pplications link against GA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s run irrespective of available infrastructur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AT Engine loads all available adaptors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at runtim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pon a call to the GAT-API the GAT Engine determines which adaptor(s) provide the “grid operation”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pon “grid operation” failure another adaptor may be calle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here exist a set of default adaptors which provide default local capabiliti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 applications can thus be compiled, linked, and tested without any available grid servi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same application executable can run in a “full grid environment.”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No recompilation / link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GAT API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6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 language independent, object oriented specifica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anguage binding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, C++, Java, python, 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ork in progres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erl, .net, fortra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opt the “look-and-feel” of the target languag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ocus on well-known programming paradigms 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vide a File API for file acces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Not (web)services to services to files. . 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grammers expect open, close, read, write, seek.  Do not introduce fancy things like the need to ask a service discovery service to tell me the location of an service which is able to tell me the location of my file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API featur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4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ecurity (deal with passwords, credentials, etc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 operations, remote file access, file replic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Inter-process communic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ource broker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orking grid applications, job manageme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lobal repository for application specific inform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Query this information repositor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 monitor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pplication monitoring and steer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rid Applications with GA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292" name=""/>
          <p:cNvSpPr/>
          <p:nvPr/>
        </p:nvSpPr>
        <p:spPr>
          <a:xfrm>
            <a:off x="3192480" y="4051440"/>
            <a:ext cx="411336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92480" y="3562200"/>
            <a:ext cx="903240" cy="39240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Remot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95800" y="3562200"/>
            <a:ext cx="903240" cy="39240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99120" y="3562200"/>
            <a:ext cx="1003320" cy="39240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02520" y="3562200"/>
            <a:ext cx="1003320" cy="39240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2480" y="4541760"/>
            <a:ext cx="60156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GridLab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95560" y="4541760"/>
            <a:ext cx="60192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Globus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97560" y="4541760"/>
            <a:ext cx="60156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Unicore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00640" y="4541760"/>
            <a:ext cx="60156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2280" y="4541760"/>
            <a:ext cx="60156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P2P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03920" y="4541760"/>
            <a:ext cx="601920" cy="392040"/>
          </a:xfrm>
          <a:prstGeom prst="roundRect">
            <a:avLst>
              <a:gd name="adj" fmla="val 403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63880" y="3333600"/>
            <a:ext cx="4570560" cy="1828800"/>
          </a:xfrm>
          <a:prstGeom prst="roundRect">
            <a:avLst>
              <a:gd name="adj" fmla="val 83"/>
            </a:avLst>
          </a:prstGeom>
          <a:solidFill>
            <a:srgbClr val="ffffff">
              <a:alpha val="80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9600" spc="-1" strike="noStrike">
                <a:solidFill>
                  <a:srgbClr val="5b5249"/>
                </a:solidFill>
                <a:latin typeface="Arial Black"/>
              </a:rPr>
              <a:t>GAT</a:t>
            </a:r>
            <a:endParaRPr b="0" lang="en-US" sz="9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28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406520" y="2170080"/>
            <a:ext cx="2328840" cy="111276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257520" y="2340000"/>
            <a:ext cx="2235240" cy="95256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broker.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249360" y="5187960"/>
            <a:ext cx="377640" cy="9050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46800" y="5168880"/>
            <a:ext cx="414360" cy="9144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31960" y="6102360"/>
            <a:ext cx="106704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26200" y="6093000"/>
            <a:ext cx="9619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lobu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File Copy with GAT (C++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16" name=""/>
          <p:cNvSpPr/>
          <p:nvPr/>
        </p:nvSpPr>
        <p:spPr>
          <a:xfrm>
            <a:off x="3218040" y="3505320"/>
            <a:ext cx="7850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#include &lt;GAT++.hpp&gt;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void RemoteFile::GetFile (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    </a:t>
            </a: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GAT::Context context, std::string source_url,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    </a:t>
            </a: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std::string target_url) throws GAT::Exception {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    </a:t>
            </a: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GAT::File file (context, source_url);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    </a:t>
            </a: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file.Copy      (target_url);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}</a:t>
            </a: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File Copy with GAT (C++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18" name=""/>
          <p:cNvSpPr/>
          <p:nvPr/>
        </p:nvSpPr>
        <p:spPr>
          <a:xfrm>
            <a:off x="696960" y="2422440"/>
            <a:ext cx="961236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#include &lt;GAT++.hpp&gt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void RemoteFile::GetFile (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GAT::Context context, std::string source_url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std::string target_url) throws GAT::Exception {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 Mono"/>
              </a:rPr>
              <a:t>GAT::File file (context, source_url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 Mono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 Mono"/>
              </a:rPr>
              <a:t>file.Copy      (target_url);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8000"/>
              </a:lnSpc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JavaGAT overview and structur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36600" y="1636200"/>
            <a:ext cx="94075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U Project Funded by 5th Framework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3 years, 5 million euro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artner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SNC, AEI, ZIB, MASARYK, SZTAKI, ISUFI, Cardiff, NTUA, Chicago, ISI, Wisconsin, Sun, Compaq,…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Vrije Universiteit Amsterd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12 Work Packages cove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 Portals, Mobile Users, Data Management, Applications, Testbed, 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AT: The Grid Application Toolki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1230480" y="1716120"/>
            <a:ext cx="7957800" cy="534024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GridLab Projec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hy Java?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34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ava is widely used, object oriented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ecure (language, sandbox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ava is “write once, run everywhere”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mpile application on your desktop machine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is creates machine independent bytecode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py application files and the GAT to any grid site</a:t>
            </a:r>
            <a:br>
              <a:rPr sz="2000"/>
            </a:b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(portal typically does this for you)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ust run it. No recompilation / configuration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erformance of current JITs is good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mpiled (just-in-time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untime, profile-driven optimiza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pplications are typically 10% slower than C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Ideal for grid computing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32600" y="1722600"/>
            <a:ext cx="1476360" cy="125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API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32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API is an object oriented specification, but language independent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ension between existing language features and the GAT specification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grammers do not want to learn new APIs for features already in the language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AT should “feel” the same across platforms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ind the tight trade-off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46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367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-2523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08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33" name=""/>
          <p:cNvSpPr/>
          <p:nvPr/>
        </p:nvSpPr>
        <p:spPr>
          <a:xfrm>
            <a:off x="71280" y="2635200"/>
            <a:ext cx="9807840" cy="109368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48040" y="315612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60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489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ridLab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Unicor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47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P2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52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24800" y="2359080"/>
            <a:ext cx="131760" cy="7254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580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524800" y="2359080"/>
            <a:ext cx="131760" cy="7254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031240" y="3292560"/>
            <a:ext cx="622080" cy="9810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73920" y="42908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457200" y="38894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" y="27464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1760" y="274464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27760" y="274464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Adver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40560" y="274464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" y="50324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574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2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56160" y="50324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it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56360" y="50324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454960" y="50324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Zorill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44880" y="647208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480000" y="64818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080200" y="64818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22720" y="6578640"/>
            <a:ext cx="1301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989440" y="6275520"/>
            <a:ext cx="6405480" cy="106344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7840" y="15876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6360" y="50324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58920" y="3340080"/>
            <a:ext cx="180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16160" y="447192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56520" y="529272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8524800" y="2359080"/>
            <a:ext cx="131760" cy="7254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8031240" y="3292560"/>
            <a:ext cx="622080" cy="9810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73920" y="42908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57400" y="4405320"/>
            <a:ext cx="4988160" cy="78264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00440" y="516888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ridLab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Unicor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47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P2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515440" y="2330280"/>
            <a:ext cx="14112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957400" y="4405320"/>
            <a:ext cx="4988160" cy="78264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8031240" y="3292560"/>
            <a:ext cx="622080" cy="9810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873920" y="42908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00440" y="516888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780400" y="2340000"/>
            <a:ext cx="141480" cy="75420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675640" y="221760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8864640" y="314172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673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ridLab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Unicor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47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P2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515440" y="2330280"/>
            <a:ext cx="14112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2957400" y="4405320"/>
            <a:ext cx="4988160" cy="78264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8031240" y="3292560"/>
            <a:ext cx="622080" cy="9810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73920" y="42908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00440" y="516888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780400" y="2340000"/>
            <a:ext cx="141480" cy="75420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675640" y="221760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294760" y="3301920"/>
            <a:ext cx="622080" cy="98100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864640" y="314172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139240" y="4300560"/>
            <a:ext cx="18864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 GAT Structur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16" name=""/>
          <p:cNvSpPr/>
          <p:nvPr/>
        </p:nvSpPr>
        <p:spPr>
          <a:xfrm>
            <a:off x="457200" y="3887640"/>
            <a:ext cx="93693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AT Engin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744640"/>
            <a:ext cx="205596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File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41760" y="2743200"/>
            <a:ext cx="20574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onitoring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277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Info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ervi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540560" y="2743200"/>
            <a:ext cx="22860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Resourc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Management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4240" y="2651040"/>
            <a:ext cx="980748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ridLab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502920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Globus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561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Unicor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2563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SS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8547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P2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454960" y="5030640"/>
            <a:ext cx="1371600" cy="914400"/>
          </a:xfrm>
          <a:prstGeom prst="roundRect">
            <a:avLst>
              <a:gd name="adj" fmla="val 17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Local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44880" y="647064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Java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4800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D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080200" y="6480000"/>
            <a:ext cx="1143000" cy="685800"/>
          </a:xfrm>
          <a:prstGeom prst="roundRect">
            <a:avLst>
              <a:gd name="adj" fmla="val 231"/>
            </a:avLst>
          </a:prstGeom>
          <a:solidFill>
            <a:srgbClr val="00ff00"/>
          </a:solidFill>
          <a:ln w="547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Black"/>
              </a:rPr>
              <a:t>W.I.P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22720" y="6576840"/>
            <a:ext cx="130176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 Black"/>
              </a:rPr>
              <a:t>Legend</a:t>
            </a:r>
            <a:r>
              <a:rPr b="0" lang="en-GB" sz="2400" spc="-1" strike="noStrike">
                <a:solidFill>
                  <a:srgbClr val="5b524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89440" y="6273720"/>
            <a:ext cx="6405480" cy="1063800"/>
          </a:xfrm>
          <a:prstGeom prst="roundRect">
            <a:avLst>
              <a:gd name="adj" fmla="val 148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-298080" y="2963520"/>
            <a:ext cx="1083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P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515440" y="2330280"/>
            <a:ext cx="141120" cy="7542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405080" y="2170080"/>
            <a:ext cx="68868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58920" y="3338640"/>
            <a:ext cx="1800" cy="97128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055960" y="314964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16160" y="4470480"/>
            <a:ext cx="4187880" cy="820800"/>
          </a:xfrm>
          <a:custGeom>
            <a:avLst/>
            <a:gdLst/>
            <a:ahLst/>
            <a:rect l="l" t="t" r="r" b="b"/>
            <a:pathLst>
              <a:path w="11632" h="2279">
                <a:moveTo>
                  <a:pt x="0" y="0"/>
                </a:moveTo>
                <a:lnTo>
                  <a:pt x="11003" y="577"/>
                </a:lnTo>
                <a:lnTo>
                  <a:pt x="11631" y="2278"/>
                </a:lnTo>
              </a:path>
            </a:pathLst>
          </a:custGeom>
          <a:noFill/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2957400" y="4405320"/>
            <a:ext cx="4988160" cy="78264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5960" y="4367160"/>
            <a:ext cx="18864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56520" y="5291280"/>
            <a:ext cx="18864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8031240" y="3292560"/>
            <a:ext cx="622080" cy="981000"/>
          </a:xfrm>
          <a:prstGeom prst="line">
            <a:avLst/>
          </a:prstGeom>
          <a:ln w="5472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601120" y="313200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873920" y="42908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00440" y="516888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93600" y="4933800"/>
            <a:ext cx="9798120" cy="1094040"/>
          </a:xfrm>
          <a:prstGeom prst="roundRect">
            <a:avLst>
              <a:gd name="adj" fmla="val 144"/>
            </a:avLst>
          </a:prstGeom>
          <a:solidFill>
            <a:srgbClr val="ffffff">
              <a:alpha val="25000"/>
            </a:srgbClr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-250560" y="5246640"/>
            <a:ext cx="1084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ADAPT.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780400" y="2340000"/>
            <a:ext cx="141480" cy="75420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75640" y="221760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294760" y="3301920"/>
            <a:ext cx="622080" cy="98100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864640" y="3141720"/>
            <a:ext cx="1890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223120" y="4405320"/>
            <a:ext cx="725760" cy="717480"/>
          </a:xfrm>
          <a:prstGeom prst="line">
            <a:avLst/>
          </a:prstGeom>
          <a:ln w="5472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139240" y="4300560"/>
            <a:ext cx="18864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940960" y="5130720"/>
            <a:ext cx="18864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Implementation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aptors are Java JAR files, dynamically loaded into the application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ate binding (specification allows this)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GAT engine selects the best adaptor for each method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xample: Create file object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ngine selects and instantiates all adaptors than can implement this file object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.copy from site A to site B and C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-&gt; B copy with GridFTP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-&gt; C copy with SSH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vides flexibility and fault tolerance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Other implementations (C, C++, ...) use static bind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Spec vs JavaGAT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mory management is done for you (GC)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utility objects are not needed (list, table)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No status objects, but exception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an be nested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Spec vs JavaGAT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46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ile and Streaming API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avaGAT subclasses existing “java.io” classes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treams and random access are separa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The GAT specification defines seeks on streams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irectories are “first class citizens” and can be moved, copied, etc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irectories can be used with any adopt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Stage in and out with resource broker. 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ny Java code that uses files can now transparently use remote files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File operations (getSize, isReadable)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Random File access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Streaming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vailable Adaptor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omplete set of local adaptors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eneric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tage in / out on top of GAT file; used by broker adaptor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upport for dealing with security contex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ake writing new adaptors as easy as possib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any adaptors for grid middlewar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Will be mentioned lat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48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Some Basic GAT Object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referenc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Key value pair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daptor-specific instruc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lobal or local, local overrides global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xample: (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"File.adaptor.name", "globus" 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Contex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ntains security inform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ntains global preferen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re can be more than one contex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Needed to create GAT objec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actory for all GAT objec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Exception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Nested, helps debugging (Needed because of late binding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Some Basic GAT Object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5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URI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lightly different semantics compared to java.net.URI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se the right number of /'s in the URI'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ull URI is easy.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protocol://machine/&lt;path&gt;file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.but some fields may be blank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file:///output          (local file in current directory)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file:////output         (local file in root (/) directory)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file:////tmp/output     (local file in /tmp directory)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ftp://10.0.0.1/output   (remote file in default ftp dir)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Use the right scheme (protocol) in the URI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avaGAT can choose (late binding):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any://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orce a specific adaptor (early binding):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ftp://, gsiftp://, http://, file://, ...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Exampl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GATContext </a:t>
            </a:r>
            <a:r>
              <a:rPr b="0" lang="en-GB" sz="2600" spc="-1" strike="noStrike">
                <a:solidFill>
                  <a:srgbClr val="008000"/>
                </a:solidFill>
                <a:latin typeface="Bitstream Vera Sans Mono"/>
              </a:rPr>
              <a:t>context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 = new GATContext(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Preferences </a:t>
            </a:r>
            <a:r>
              <a:rPr b="0" lang="en-GB" sz="2600" spc="-1" strike="noStrike">
                <a:solidFill>
                  <a:srgbClr val="ff0000"/>
                </a:solidFill>
                <a:latin typeface="Bitstream Vera Sans Mono"/>
              </a:rPr>
              <a:t>prefs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 = new Preferences(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prefs.put("File.adaptor.name", "globus"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8000"/>
                </a:solidFill>
                <a:latin typeface="Bitstream Vera Sans Mono"/>
              </a:rPr>
              <a:t>context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.addPreferences(</a:t>
            </a:r>
            <a:r>
              <a:rPr b="0" lang="en-GB" sz="2600" spc="-1" strike="noStrike">
                <a:solidFill>
                  <a:srgbClr val="ff0000"/>
                </a:solidFill>
                <a:latin typeface="Bitstream Vera Sans Mono"/>
              </a:rPr>
              <a:t>prefs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src = new URI("hello"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file = GAT.createFile(</a:t>
            </a:r>
            <a:r>
              <a:rPr b="0" lang="en-GB" sz="2600" spc="-1" strike="noStrike">
                <a:solidFill>
                  <a:srgbClr val="008000"/>
                </a:solidFill>
                <a:latin typeface="Bitstream Vera Sans Mono"/>
              </a:rPr>
              <a:t>context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, src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 Mono"/>
              </a:rPr>
              <a:t>OR use local preferences to override globals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file = GAT.createFile(</a:t>
            </a:r>
            <a:r>
              <a:rPr b="0" lang="en-GB" sz="2600" spc="-1" strike="noStrike">
                <a:solidFill>
                  <a:srgbClr val="008000"/>
                </a:solidFill>
                <a:latin typeface="Bitstream Vera Sans Mono"/>
              </a:rPr>
              <a:t>context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, </a:t>
            </a:r>
            <a:r>
              <a:rPr b="0" lang="en-GB" sz="2600" spc="-1" strike="noStrike">
                <a:solidFill>
                  <a:srgbClr val="0000ff"/>
                </a:solidFill>
                <a:latin typeface="Bitstream Vera Sans Mono"/>
              </a:rPr>
              <a:t>morePrefs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 Mono"/>
              </a:rPr>
              <a:t>, src);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Security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3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ecurityContex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container for security Information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bstract, use subclass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asswordSecurityContex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ertificateSecurityContex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yProxyServerCredentialSecurityContex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Notes restrict the access to the contex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void broadcasting of passwords / credential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trict access to a set of hosts or adaptor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One or more notes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-&gt; restricted to those adaptors/hos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No notes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	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-&gt; any adaptor can use context for any hos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Typically not needed if default credentials / private keys are used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Security exampl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3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SecurityContext pwd = 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new PasswordSecurityContext(username, password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// restrict acces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pwd.addNote(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"hosts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 Mono"/>
              </a:rPr>
              <a:t>, </a:t>
            </a: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"hostname1:port1,hostname2:port2"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pwd.addNote(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"adaptors"</a:t>
            </a:r>
            <a:r>
              <a:rPr b="0" lang="en-GB" sz="1800" spc="-1" strike="noStrike">
                <a:solidFill>
                  <a:srgbClr val="000000"/>
                </a:solidFill>
                <a:latin typeface="Bitstream Vera Sans Mono"/>
              </a:rPr>
              <a:t>, </a:t>
            </a: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"ftp,ssh"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SecurityContext cert = 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new CertificateSecurityContext(keyfile, username, passphrase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// add them to the GAT contex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Bitstream Vera Sans Mono"/>
              </a:rPr>
              <a:t>context.addSecurityContext(pwd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Bitstream Vera Sans Mono"/>
              </a:rPr>
              <a:t>context.addSecurityContext(cert);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rid I/O Use Ca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opy, move, read, write files on the grid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andom access to remote fil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plicate files between different grid sit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Inter-process communica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vailable Adaptors for </a:t>
            </a:r>
            <a:br>
              <a:rPr sz="3200"/>
            </a:b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rid I/O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ile, streams and random file access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ocal fil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TP, HTTP, HTTP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ridFTP (Globus2 and Globus4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FT (limited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SH, SFTP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ogical file (replication)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eneric adaptor on top of GAT 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ip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ocke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989760" y="3556080"/>
            <a:ext cx="2689200" cy="1495440"/>
          </a:xfrm>
          <a:prstGeom prst="roundRect">
            <a:avLst>
              <a:gd name="adj" fmla="val 102"/>
            </a:avLst>
          </a:prstGeom>
          <a:solidFill>
            <a:srgbClr val="99cc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rid I/O Clas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i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FileInputStream / FileOutputStream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andomAccessFi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ogicalFi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plicated file suppor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Basic Inter-process communica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ndpoi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ip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ipeListen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89" name=""/>
          <p:cNvSpPr/>
          <p:nvPr/>
        </p:nvSpPr>
        <p:spPr>
          <a:xfrm>
            <a:off x="7213680" y="1973160"/>
            <a:ext cx="26193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xtend java.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las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0" y="1606680"/>
            <a:ext cx="12510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0" spc="-1" strike="noStrike">
                <a:solidFill>
                  <a:srgbClr val="000080"/>
                </a:solidFill>
                <a:latin typeface="Bitstream Vera Sans"/>
              </a:rPr>
              <a:t>}</a:t>
            </a:r>
            <a:endParaRPr b="0" lang="en-US" sz="10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178760" y="3645000"/>
            <a:ext cx="25002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Grid-enab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your code, just by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replacing on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“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new” stateme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035920" y="2906640"/>
            <a:ext cx="1440" cy="52560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19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46240" y="3187800"/>
            <a:ext cx="961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Fil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presents both files and directories (like java.io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anRead, canWri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ele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kdi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is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cop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mov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File exampl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package tutorial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import org.gridlab.gat.*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import org.gridlab.gat.io.File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public class RemoteCopy {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URI </a:t>
            </a:r>
            <a:r>
              <a:rPr b="0" lang="en-GB" sz="1400" spc="-1" strike="noStrike">
                <a:solidFill>
                  <a:srgbClr val="0000ff"/>
                </a:solidFill>
                <a:latin typeface="Bitstream Vera Sans Mono"/>
              </a:rPr>
              <a:t>src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= new URI(args[0]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URI </a:t>
            </a:r>
            <a:r>
              <a:rPr b="0" lang="en-GB" sz="1400" spc="-1" strike="noStrike">
                <a:solidFill>
                  <a:srgbClr val="008000"/>
                </a:solidFill>
                <a:latin typeface="Bitstream Vera Sans Mono"/>
              </a:rPr>
              <a:t>dest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= new URI(args[1]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File </a:t>
            </a:r>
            <a:r>
              <a:rPr b="0" lang="en-GB" sz="1400" spc="-1" strike="noStrike">
                <a:solidFill>
                  <a:srgbClr val="0000ff"/>
                </a:solidFill>
                <a:latin typeface="Bitstream Vera Sans Mono"/>
              </a:rPr>
              <a:t>file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= GAT.createFile(context, </a:t>
            </a:r>
            <a:r>
              <a:rPr b="0" lang="en-GB" sz="1400" spc="-1" strike="noStrike">
                <a:solidFill>
                  <a:srgbClr val="0000ff"/>
                </a:solidFill>
                <a:latin typeface="Bitstream Vera Sans Mono"/>
              </a:rPr>
              <a:t>src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);                // create file object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ff"/>
                </a:solidFill>
                <a:latin typeface="Bitstream Vera Sans Mono"/>
              </a:rPr>
              <a:t>file</a:t>
            </a:r>
            <a:r>
              <a:rPr b="0" lang="en-GB" sz="1400" spc="-1" strike="noStrike">
                <a:solidFill>
                  <a:srgbClr val="ff0000"/>
                </a:solidFill>
                <a:latin typeface="Bitstream Vera Sans Mono"/>
              </a:rPr>
              <a:t>.copy(</a:t>
            </a:r>
            <a:r>
              <a:rPr b="0" lang="en-GB" sz="1400" spc="-1" strike="noStrike">
                <a:solidFill>
                  <a:srgbClr val="008000"/>
                </a:solidFill>
                <a:latin typeface="Bitstream Vera Sans Mono"/>
              </a:rPr>
              <a:t>dest</a:t>
            </a:r>
            <a:r>
              <a:rPr b="0" lang="en-GB" sz="1400" spc="-1" strike="noStrike">
                <a:solidFill>
                  <a:srgbClr val="ff0000"/>
                </a:solidFill>
                <a:latin typeface="Bitstream Vera Sans Mono"/>
              </a:rPr>
              <a:t>);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                                 // and copy it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GAT.end(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File Streaming Exampl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7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package tutorial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class RemoteCat {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URI loc = new URI(</a:t>
            </a:r>
            <a:r>
              <a:rPr b="0" lang="en-GB" sz="1400" spc="-1" strike="noStrike">
                <a:solidFill>
                  <a:srgbClr val="008000"/>
                </a:solidFill>
                <a:latin typeface="Bitstream Vera Sans Mono"/>
              </a:rPr>
              <a:t>args[0]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ff0000"/>
                </a:solidFill>
                <a:latin typeface="Bitstream Vera Sans Mono"/>
              </a:rPr>
              <a:t>FileInputStream in = GAT.createFileInputStream(context, loc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InputStreamReader reader = new InputStreamReader(in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BufferedReader buf = new BufferedReader(reader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while(true) {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String result = buf.readLine();        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if(result == null) break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System.out.println(result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in.close(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GAT.end();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4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799" name=""/>
          <p:cNvSpPr/>
          <p:nvPr/>
        </p:nvSpPr>
        <p:spPr>
          <a:xfrm>
            <a:off x="8229600" y="3998880"/>
            <a:ext cx="1554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tandar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ava.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las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91480" y="3944880"/>
            <a:ext cx="455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000" spc="-1" strike="noStrike">
                <a:solidFill>
                  <a:srgbClr val="000080"/>
                </a:solidFill>
                <a:latin typeface="Bitstream Vera Sans"/>
              </a:rPr>
              <a:t>}</a:t>
            </a:r>
            <a:endParaRPr b="0" lang="en-US" sz="5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92960" y="4356000"/>
            <a:ext cx="576360" cy="180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Remote Random Access Fil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andom access to remote fil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a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wri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eek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ength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Logical File</a:t>
            </a:r>
            <a:br>
              <a:rPr sz="3200"/>
            </a:b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(replica management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4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ogicalFile clas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n abstract representation of a set of identical physical fil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ddFile / addURI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moveFile / removeURI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replicate(URI destination)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plicate a logical file to a new location.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py one of the files in the set to the new loc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hoose the “best” on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Closest in terms of bandwidth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Cheapes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epends on adaptor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ypically used for staging in files for job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ource broker (or GAT) chooses one of the files in the se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Inter-Process Communication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Basic IPC primitiv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Not intended for parallel programm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PI looks like socke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oint to point onl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tocol independe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ndpoi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reate the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listen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(bind/accept in “socket speak”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connect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(setup connection to another Endpoint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listen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and </a:t>
            </a: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connect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both return a Pip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ip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connection between to Endpoints (like a socket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vides InputStream and OutputStre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Inter-Process Communication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ndpoints are shared using the GAT application information servi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synchronous connection setup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ipeListener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ocessPipe(Pipe pipe);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ndpoint.listen(PipeListener p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synchronous (returns immediately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When a remote site connects, GAT calls processPipe on listene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Resource Management Use Ca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chedule, run jobs on the grid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tage in / stage out files that belong with job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ancel, checkpoint, migrate job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erve resourc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vailable Adaptors for Resource Managemen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Local machin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lobus 2 (GRAM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lobus 4  (WS-GRAM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roActiv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Zorilla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SH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un Grid Engine (SGE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B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lit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ridSAM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27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82680" y="2055960"/>
            <a:ext cx="18900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12120" y="2206800"/>
            <a:ext cx="189000" cy="188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1924200"/>
            <a:ext cx="1600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46240" y="3187800"/>
            <a:ext cx="961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Resource Management Classes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Descrip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oftwareResourceDescrip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escribes a software component: library or Operating System, etc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Key/value pair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os.name”, “linux”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os.release”, “2.6”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HardwareResourceDescrip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escribes a hardware component: machine to run a job on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Key/value pair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emory.size”, “1GB”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51440" indent="-22608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“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achine.type”, “i686”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ome keys and values defined in the spec, others may be adaptor specific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Both have a list of additional ResourceDescrip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Build trees of ResourceDescriptions to express complex requiremen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wo requirement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65040" y="2705040"/>
            <a:ext cx="94075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Bitstream Vera Sans Mono"/>
              </a:rPr>
              <a:t>SoftwareResourceDescription srd = 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Bitstream Vera Sans Mono"/>
              </a:rPr>
              <a:t>    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 Mono"/>
              </a:rPr>
              <a:t>new SoftwareResourceDescription();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8000"/>
                </a:solidFill>
                <a:latin typeface="Bitstream Vera Sans Mono"/>
              </a:rPr>
              <a:t>srd.addResourceAttribute(“os.name”, “linux);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Bitstream Vera Sans Mono"/>
              </a:rPr>
              <a:t>HardwareResourceDescription hrd = 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Bitstream Vera Sans Mono"/>
              </a:rPr>
              <a:t>    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 Mono"/>
              </a:rPr>
              <a:t>new HardwareResourceDescription();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Bitstream Vera Sans Mono"/>
              </a:rPr>
              <a:t>hrd.addResourceAttribute(“machine.type”, “i686”);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Bitstream Vera Sans Mono"/>
              </a:rPr>
              <a:t>srd.addResourceDesctiption(hrd); // require 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 Mono"/>
              </a:rPr>
              <a:t>srd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 Mono"/>
              </a:rPr>
              <a:t> </a:t>
            </a:r>
            <a:r>
              <a:rPr b="1" lang="en-GB" sz="2200" spc="-1" strike="noStrike" u="sng">
                <a:solidFill>
                  <a:srgbClr val="000080"/>
                </a:solidFill>
                <a:uFillTx/>
                <a:latin typeface="Bitstream Vera Sans Mono"/>
              </a:rPr>
              <a:t>and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 Mono"/>
              </a:rPr>
              <a:t> 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 Mono"/>
              </a:rPr>
              <a:t>hrd</a:t>
            </a:r>
            <a:endParaRPr b="0" lang="en-US" sz="2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20" name=""/>
          <p:cNvSpPr/>
          <p:nvPr/>
        </p:nvSpPr>
        <p:spPr>
          <a:xfrm>
            <a:off x="201600" y="1566720"/>
            <a:ext cx="4343400" cy="885960"/>
          </a:xfrm>
          <a:prstGeom prst="roundRect">
            <a:avLst>
              <a:gd name="adj" fmla="val 176"/>
            </a:avLst>
          </a:prstGeom>
          <a:solidFill>
            <a:srgbClr val="0080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itstream Vera Sans"/>
              </a:rPr>
              <a:t>SoftwareResourceDescip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itstream Vera Sans"/>
              </a:rPr>
              <a:t>os.name=linux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97480" y="1581120"/>
            <a:ext cx="4444920" cy="914400"/>
          </a:xfrm>
          <a:prstGeom prst="roundRect">
            <a:avLst>
              <a:gd name="adj" fmla="val 171"/>
            </a:avLst>
          </a:prstGeom>
          <a:solidFill>
            <a:srgbClr val="ff00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ardwareResourceDescip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chine.type=i686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638600" y="2039760"/>
            <a:ext cx="576360" cy="1800"/>
          </a:xfrm>
          <a:prstGeom prst="line">
            <a:avLst/>
          </a:prstGeom>
          <a:ln w="7308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re Complex Descrip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24" name=""/>
          <p:cNvSpPr/>
          <p:nvPr/>
        </p:nvSpPr>
        <p:spPr>
          <a:xfrm>
            <a:off x="135000" y="3049560"/>
            <a:ext cx="99457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SoftwareResourceDescription srd =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    </a:t>
            </a: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new SoftwareResourceDescription(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srd.addResourceAttribute(“os.name”, “linux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HardwareResourceDescription hrd1 = new HardwareResourceDescription(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hrd1.addResourceAttribute(“machine.type”, “i686”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HardwareResourceDescription hrd2 = new HardwareResourceDescription(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hrd2.addResourceAttribute(“machine.type”, “power4”);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srd.addResourceDesctiption(hrd1); // We </a:t>
            </a:r>
            <a:r>
              <a:rPr b="1" lang="en-GB" sz="1800" spc="-1" strike="noStrike" u="sng">
                <a:solidFill>
                  <a:srgbClr val="000080"/>
                </a:solidFill>
                <a:uFillTx/>
                <a:latin typeface="Bitstream Vera Sans Mono"/>
              </a:rPr>
              <a:t>must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have </a:t>
            </a:r>
            <a:r>
              <a:rPr b="0" lang="en-GB" sz="1800" spc="-1" strike="noStrike">
                <a:solidFill>
                  <a:srgbClr val="008000"/>
                </a:solidFill>
                <a:latin typeface="Bitstream Vera Sans Mono"/>
              </a:rPr>
              <a:t>Linux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srd.addResourceDesctiption(hrd2); // on </a:t>
            </a:r>
            <a:r>
              <a:rPr b="1" lang="en-GB" sz="1800" spc="-1" strike="noStrike">
                <a:solidFill>
                  <a:srgbClr val="000080"/>
                </a:solidFill>
                <a:latin typeface="Bitstream Vera Sans Mono"/>
              </a:rPr>
              <a:t>either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i686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</a:t>
            </a:r>
            <a:r>
              <a:rPr b="1" lang="en-GB" sz="1800" spc="-1" strike="noStrike" u="sng">
                <a:solidFill>
                  <a:srgbClr val="000080"/>
                </a:solidFill>
                <a:uFillTx/>
                <a:latin typeface="Bitstream Vera Sans Mono"/>
              </a:rPr>
              <a:t>or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 Mono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Bitstream Vera Sans Mono"/>
              </a:rPr>
              <a:t>power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01600" y="1566720"/>
            <a:ext cx="4343400" cy="885960"/>
          </a:xfrm>
          <a:prstGeom prst="roundRect">
            <a:avLst>
              <a:gd name="adj" fmla="val 176"/>
            </a:avLst>
          </a:prstGeom>
          <a:solidFill>
            <a:srgbClr val="0080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itstream Vera Sans"/>
              </a:rPr>
              <a:t>SoftwareResourceDescip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Bitstream Vera Sans"/>
              </a:rPr>
              <a:t>os.name=linux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97480" y="1581120"/>
            <a:ext cx="4444920" cy="914400"/>
          </a:xfrm>
          <a:prstGeom prst="roundRect">
            <a:avLst>
              <a:gd name="adj" fmla="val 171"/>
            </a:avLst>
          </a:prstGeom>
          <a:solidFill>
            <a:srgbClr val="ff00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ardwareResourceDescip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chine.type=i686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38600" y="2039760"/>
            <a:ext cx="576360" cy="1800"/>
          </a:xfrm>
          <a:prstGeom prst="line">
            <a:avLst/>
          </a:prstGeom>
          <a:ln w="7308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413320" y="2722680"/>
            <a:ext cx="4444920" cy="914400"/>
          </a:xfrm>
          <a:prstGeom prst="roundRect">
            <a:avLst>
              <a:gd name="adj" fmla="val 171"/>
            </a:avLst>
          </a:prstGeom>
          <a:solidFill>
            <a:srgbClr val="ff00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HardwareResourceDesciption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Bitstream Vera Sans"/>
              </a:rPr>
              <a:t>machine.type=power4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660920" y="2179800"/>
            <a:ext cx="592200" cy="1054080"/>
          </a:xfrm>
          <a:prstGeom prst="line">
            <a:avLst/>
          </a:prstGeom>
          <a:ln w="7308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Resource Management Classes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6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oftwareResour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HardwareResour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erva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oftwareDescrip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xecutab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rgument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tdin, stdout, stderr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re-staged, post-staged fil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0">
              <a:lnSpc>
                <a:spcPct val="10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obDescrip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ust have SoftwareDescrip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Has ResourceDescription or Resour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32" name=""/>
          <p:cNvSpPr/>
          <p:nvPr/>
        </p:nvSpPr>
        <p:spPr>
          <a:xfrm>
            <a:off x="6400800" y="3139920"/>
            <a:ext cx="2500200" cy="1097280"/>
          </a:xfrm>
          <a:prstGeom prst="rect">
            <a:avLst/>
          </a:prstGeom>
          <a:solidFill>
            <a:srgbClr val="99ccff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lvl="1" marL="457200" indent="-45720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Describes th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software you wa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to run on the gri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72120" y="3564000"/>
            <a:ext cx="1947600" cy="144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041720" y="5324400"/>
            <a:ext cx="5888160" cy="1289160"/>
          </a:xfrm>
          <a:prstGeom prst="rect">
            <a:avLst/>
          </a:prstGeom>
          <a:solidFill>
            <a:srgbClr val="99ccff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lvl="1" marL="457200" indent="-457200"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Describes your job: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Software and Requirements (for brokering)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 algn="ctr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Software and a specific resource to run 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3262320" y="5984640"/>
            <a:ext cx="635040" cy="36972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Resource Management Classes (3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Broker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ubmit job descrip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nd resourc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ake reserva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Job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ult of job submiss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Query sta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ancel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heckpoi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igrat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Resource Management Example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SubmitLocalJob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SoftwareDescription sd = new SoftwareDescription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sd.setExecutable("/bin/hostname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File stdout = GAT.createFile("hostname.txt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sd.setStdout(stdou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JobDescription jd = new JobDescription(sd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URI localhost = new URI(“any://localhost”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ResourceBroker broker = GAT.createResourceBroker(localhos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 job = broker.submitJob(jd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while (job.getState() != JobState.STOPPED &amp;&amp; 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.getState() != JobState.SUBMISSION_ERROR)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‏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Thread.sleep(1000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Advert Servic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56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vert service is a directory with an hierarchical name spa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he advert service can publish GAT object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ogical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ndpoi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ource (software, hardware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ob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User attaches meta data to GAT object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pplication can query, based on meta data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vert service can be made persistent (import/export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vert service is language independ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dvert Service Use Ca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ublish your (replicated) files, so other applications can open them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ublish Endpoints to establish inter process communica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ublish the (hardware) resources you found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pawn jobs, publish their Job object, let other applications (like a portal) monitor them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vailable Adaptors for the Advert Servic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eneric advert servi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7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Keeps a local database in memor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7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atabase can be exported to any location on the grid using:</a:t>
            </a:r>
            <a:br>
              <a:rPr sz="2000"/>
            </a:b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dvertService.exportDataBase(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7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Other GAT applications can import the database from this loc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82680" y="2057400"/>
            <a:ext cx="189000" cy="189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12120" y="2208240"/>
            <a:ext cx="189000" cy="18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192564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46240" y="3187800"/>
            <a:ext cx="10666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dvert Service Clas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vertisab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arker interface (like java.io.Serializable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AT objects that implement this interface can be advertise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taData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able of (key,value) pairs (Strings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ttached to Advertisab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vertServi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ublish adverts at some path in the hierarchical name spa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ath uniquely identifies advert (one advert at any given path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upports current working directory (relative paths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add(advert, metaData, path)</a:t>
            </a: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getAdvertisable(path)</a:t>
            </a: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Bitstream Vera Sans"/>
              </a:rPr>
              <a:t>find(metaData) 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etaData can contain regular express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Example: Publishing GAT Object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AdvertServicePublish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AdvertService advert = GAT.createAdvertService(contex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File file = GAT.createFile(context, "foo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Data meta = new MetaData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.put("name", "myTestFile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.put("purpose", "tutorial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advert.add(file, meta, "/home/rob/tutorialFile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Endpoint e = GAT.createEndpoint(contex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 = new MetaData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.put("name", "myTestEndpoint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ff"/>
                </a:solidFill>
                <a:latin typeface="Bitstream Vera Sans Mono"/>
              </a:rPr>
              <a:t>meta.put("purpose", "tutorial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advert.add(e, meta, "/home/rob/tutorialEndpoint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Example: retrieving GAT Object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AdvertServicePrinter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AdvertService advert = GAT.createAdvertService(contex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Advertisable result = advert.getAdvertisable(args[0]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if(result == null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object not found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return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got object back: " + resul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Querying the Advert Servic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Create MetaData query descrip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ll fields in query must be matche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ults may have additional field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etaData value fields can be regular express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56" name=""/>
          <p:cNvSpPr/>
          <p:nvPr/>
        </p:nvSpPr>
        <p:spPr>
          <a:xfrm>
            <a:off x="328680" y="3438360"/>
            <a:ext cx="4165560" cy="1289160"/>
          </a:xfrm>
          <a:prstGeom prst="rect">
            <a:avLst/>
          </a:prstGeom>
          <a:solidFill>
            <a:srgbClr val="99ccff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/home/rob/tutorialFil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"name", "myTestFile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“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purpose", "tutorial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527800" y="3438360"/>
            <a:ext cx="4165560" cy="1289160"/>
          </a:xfrm>
          <a:prstGeom prst="rect">
            <a:avLst/>
          </a:prstGeom>
          <a:solidFill>
            <a:srgbClr val="ffff99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/home/rob/tutorialEndpoin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Bitstream Vera Sans"/>
                <a:ea typeface="msmincho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"name", "myTestEndpoint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	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“</a:t>
            </a:r>
            <a:r>
              <a:rPr b="0" lang="en-GB" sz="2000" spc="-1" strike="noStrike">
                <a:solidFill>
                  <a:srgbClr val="0000ff"/>
                </a:solidFill>
                <a:latin typeface="Bitstream Vera Sans"/>
                <a:ea typeface="msmincho"/>
              </a:rPr>
              <a:t>purpose", "tutorial"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6600" y="5257800"/>
            <a:ext cx="94075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{(“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"/>
              </a:rPr>
              <a:t>purpose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, “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"/>
              </a:rPr>
              <a:t>tutorial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)} matches bot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{(“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"/>
              </a:rPr>
              <a:t>purpose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, “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"/>
              </a:rPr>
              <a:t>tutorial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), (“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"/>
              </a:rPr>
              <a:t>location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, “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"/>
              </a:rPr>
              <a:t>any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)} matches non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{(“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"/>
              </a:rPr>
              <a:t>name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, “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"/>
              </a:rPr>
              <a:t>.*File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)} matches blue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{(“</a:t>
            </a:r>
            <a:r>
              <a:rPr b="0" lang="en-GB" sz="2200" spc="-1" strike="noStrike">
                <a:solidFill>
                  <a:srgbClr val="ff0000"/>
                </a:solidFill>
                <a:latin typeface="Bitstream Vera Sans"/>
              </a:rPr>
              <a:t>name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, “</a:t>
            </a:r>
            <a:r>
              <a:rPr b="0" lang="en-GB" sz="2200" spc="-1" strike="noStrike">
                <a:solidFill>
                  <a:srgbClr val="008000"/>
                </a:solidFill>
                <a:latin typeface="Bitstream Vera Sans"/>
              </a:rPr>
              <a:t>my.*</a:t>
            </a:r>
            <a:r>
              <a:rPr b="0" lang="en-GB" sz="2200" spc="-1" strike="noStrike">
                <a:solidFill>
                  <a:srgbClr val="000080"/>
                </a:solidFill>
                <a:latin typeface="Bitstream Vera Sans"/>
              </a:rPr>
              <a:t>”)} mathes both</a:t>
            </a:r>
            <a:endParaRPr b="0" lang="en-US" sz="2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Example: Query the Advert Service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AdvertServiceQuery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AdvertService advert = GAT.createAdvertService(contex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etaData meta = new MetaData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eta.put(args[0], args[1]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String[] paths = advert.find(meta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if (paths == null) { System.err.println("no objects found");return; 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paths.length + " adverts found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for (int i = 0; i &lt; paths.length; i++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Advertisable result = advert.getAdvertisable(paths[i]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advert " + i + " is " + resul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Overview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What is GAT and why do we need it?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JavaGAT structure and overview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Securit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Grid I/O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Resource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c0c0c0"/>
                </a:solidFill>
                <a:latin typeface="Bitstream Vera Sans"/>
              </a:rPr>
              <a:t>Application Information Managem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Monitoring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Hands-on sess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GAT Monitoring and Steering System use case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55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 and steer application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et application info (current iteration number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ell application to checkpoi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hange application variable to steer simulatio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 grid resource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Host loa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ree disc spa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urrent available network bandwidth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 and steer GAT object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onitor progress of GAT file cop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onitor job status (is it in the queue or already scheduled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...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Available Adaptors for Monitoring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External monitoring system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ercur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onitors grid resources: hosts, queues, etc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onitors / steers application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the GridLab projec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the Datagrid projec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the Hungarian Supergrid projec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the P-GRADE Parallel Grid Runtime and Application Development Enviroment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Adaptor-specific (job management)</a:t>
            </a: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nitoring System Classes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44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ab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marker interface indicating which objects can be monitore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Interface to external monitoring syste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2520" indent="-45252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able GAT object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ogical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andomAccessFil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InputStre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FileOutputStrea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Endpoin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ip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dvertServi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Resour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11960" indent="-44784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ob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nitoring System Classes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tricDefinition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description of a measurable quantity within a monitoring system (free disk space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efines: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Measurement type: continuous / discrete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ata type and unit for parameters and return value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reate metrics by supplying parameter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Host name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Device name: /dev/hda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onitoring system says: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I can measure free disk space.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3" marL="1708200" indent="-228600">
              <a:lnSpc>
                <a:spcPct val="104000"/>
              </a:lnSpc>
              <a:spcBef>
                <a:spcPts val="400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I need two String parameters (device name, host name)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lvl="3" marL="1708200" indent="-228600">
              <a:lnSpc>
                <a:spcPct val="104000"/>
              </a:lnSpc>
              <a:spcBef>
                <a:spcPts val="400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"/>
              </a:rPr>
              <a:t>I will return a long value which is the free disk space in megabytes.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et list of MetricDefinitions from Monitorab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Writing Grid Application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447840" y="1585800"/>
            <a:ext cx="9369360" cy="914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54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7360" rIns="27360" tIns="27360" bIns="27360" anchor="ctr" anchorCtr="1">
            <a:noAutofit/>
          </a:bodyPr>
          <a:p>
            <a:pPr algn="ctr">
              <a:lnSpc>
                <a:spcPct val="12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id Appli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6520" y="2170080"/>
            <a:ext cx="689040" cy="971640"/>
          </a:xfrm>
          <a:prstGeom prst="line">
            <a:avLst/>
          </a:prstGeom>
          <a:ln w="547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82680" y="2055960"/>
            <a:ext cx="189000" cy="188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2640" y="1801800"/>
            <a:ext cx="1600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File.copy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412120" y="2206800"/>
            <a:ext cx="189000" cy="188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67640" y="1924200"/>
            <a:ext cx="1600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submitJob(...)</a:t>
            </a:r>
            <a:r>
              <a:rPr b="1" lang="en-GB" sz="1500" spc="-1" strike="noStrike">
                <a:solidFill>
                  <a:srgbClr val="5b5249"/>
                </a:solidFill>
                <a:latin typeface="Courier New"/>
              </a:rPr>
              <a:t>‏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46240" y="3187800"/>
            <a:ext cx="10666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gridft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5b5249"/>
                </a:solidFill>
                <a:latin typeface="Courier New"/>
              </a:rPr>
              <a:t>sc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nitoring System Classes (3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tric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se a metric definition to define the metric you are interested in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etricDefinition is: I can measure disk spac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etric is an </a:t>
            </a:r>
            <a:r>
              <a:rPr b="0" lang="en-GB" sz="2000" spc="-1" strike="noStrike">
                <a:solidFill>
                  <a:srgbClr val="ff0000"/>
                </a:solidFill>
                <a:latin typeface="Bitstream Vera Sans"/>
              </a:rPr>
              <a:t>instance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of this: disk space on localhost, /dev/hda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reate by MetricDefinition.createMetric(“localhost”, “/dev/hda”);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tricValu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 value measured by the monitoring system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Poll monitoring system with Monitorable.getMeasurement(Metric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ontains time stamp, valu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etricListener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synchronous monitoring handler, produces new MetricValue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Can be called whenever something change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Can be called with a specific frequency (for continuous metrics)</a:t>
            </a: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nitoring Example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6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ListMetricDefinitions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c.addPreference("monitoring.adaptor.name", "mercury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onitorable m = GAT.createMonitorable(c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List definitions = m.getMetricDefinitions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found " + definitions.size() + " definitions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for (int i = 0; i &lt; definitions.size(); i++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definitions.get(i)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Monitoring Example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62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GetMetric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static void main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c.addPreference("monitoring.adaptor.name", "mercury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onitorable m = GAT.createMonitorable(c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MetricDefinition def = m.getMetricDefinitionByName(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"host.mem.free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HashMap params = new HashMap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arams.put(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"host"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,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args[0]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etric metric = def.createMetric(params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MetricEvent result = m.getMeasurement(metric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Free memory at " +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new Date(result.getEventTime()) + " was: " + result.getValue()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Power of GAT (1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ubmit job to remote resourc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Stage in a directory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et output back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Monitor the Job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Resource broker independ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ransfer protocol independent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Bitstream Vera Sans"/>
              </a:rPr>
              <a:t>In 70 lines of code!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Power of GAT (2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class SubmitJobCallback implements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MetricListener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boolean exit = false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public void start(String[] args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GATContext context = new GATContex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 job = submitJob(context, args[0]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MetricDefinition md = job.getMetricDefinitionByName("job.status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Metric m = md.createMetric();   // no parameters needed for metric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.addMetricListener(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this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, m); // register callback for job.status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// wait until job is done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nchronized (this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while (!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exit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) wait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 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//  .... continued on next slide ....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1" name=""/>
          <p:cNvSpPr/>
          <p:nvPr/>
        </p:nvSpPr>
        <p:spPr>
          <a:xfrm>
            <a:off x="4935600" y="5734080"/>
            <a:ext cx="4964040" cy="1736640"/>
          </a:xfrm>
          <a:prstGeom prst="rect">
            <a:avLst/>
          </a:prstGeom>
          <a:solidFill>
            <a:srgbClr val="99ccff"/>
          </a:solidFill>
          <a:ln w="367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2880" rIns="182880" tIns="182880" bIns="182880" anchor="t">
            <a:noAutofit/>
          </a:bodyPr>
          <a:p>
            <a:pPr lvl="1" marL="457200" indent="-457200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My </a:t>
            </a:r>
            <a:r>
              <a:rPr b="0" lang="en-GB" sz="2600" spc="-1" strike="noStrike">
                <a:solidFill>
                  <a:srgbClr val="ff0000"/>
                </a:solidFill>
                <a:latin typeface="Bitstream Vera Sans Mono"/>
                <a:ea typeface="msmincho"/>
              </a:rPr>
              <a:t>processMetricEvent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method will be called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-457200">
              <a:lnSpc>
                <a:spcPct val="10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 Mono"/>
                <a:ea typeface="msmincho"/>
              </a:rPr>
              <a:t>when job.status changes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86160" y="4892760"/>
            <a:ext cx="750960" cy="677880"/>
          </a:xfrm>
          <a:prstGeom prst="line">
            <a:avLst/>
          </a:prstGeom>
          <a:ln w="73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Power of GAT (3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36600" y="1636560"/>
            <a:ext cx="9407520" cy="55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public synchronized void processMetricEvent(MetricValue val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tring state = (String) val.getValue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ystem.err.println("SubmitJobCallback: Processing metric: "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+ val.getMetric() + ", state is " + state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if (state.equals("STOPPED") || state.equals("SUBMISSION_ERROR"))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exit = true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notifyAll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//  .... continued on next slide ....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Power of GAT (4)</a:t>
            </a: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36600" y="1506240"/>
            <a:ext cx="9407520" cy="59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 submitJob(GATContext context, String hostname) throws Exception {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File outFile = GAT.createFile(context, "any:///hostname.txt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File stageInDir = GAT.createFile(context, "any:////home/rob/testDir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oftwareDescription sd = new SoftwareDescription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d.setLocation("file:////bin/hostname"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sd.setStdout(outFile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ff0000"/>
                </a:solidFill>
                <a:latin typeface="Bitstream Vera Sans Mono"/>
              </a:rPr>
              <a:t>sd.setPreStaged(stageInDir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    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Hashtable attributes = new Hashtable(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attributes.put("machine.node", hostname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ResourceDescription rd = new HardwareResourceDescription(attributes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JobDescription jd = new JobDescription(sd, rd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ResourceBroker broker = GAT.createResourceBroker(context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    </a:t>
            </a:r>
            <a:r>
              <a:rPr b="0" lang="en-GB" sz="1600" spc="-1" strike="noStrike">
                <a:solidFill>
                  <a:srgbClr val="008000"/>
                </a:solidFill>
                <a:latin typeface="Bitstream Vera Sans Mono"/>
              </a:rPr>
              <a:t>return broker.submitJob(jd);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80"/>
                </a:solidFill>
                <a:latin typeface="Bitstream Vera Sans Mono"/>
              </a:rPr>
              <a:t>}</a:t>
            </a: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0">
              <a:lnSpc>
                <a:spcPct val="104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The future of GAT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will be supported for at least the next two year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GAT is being standardized within GGF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is will take time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AT 2.0 will called SAGA (Simple API for Grid Applications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AGA is very close to GA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2" marL="1365120" indent="-228600">
              <a:lnSpc>
                <a:spcPct val="104000"/>
              </a:lnSpc>
              <a:spcBef>
                <a:spcPts val="451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Bitstream Vera Sans"/>
              </a:rPr>
              <a:t>Adds task model to GAT for asynchronous grid operations</a:t>
            </a:r>
            <a:endParaRPr b="0" lang="en-US" sz="18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We will offer a migration path from GAT to SAGA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JavaGAT users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ownload is anonymous, so we don't know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Max Planck Institute for Astrophysics in Garchin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-Gri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strogrid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Louisiane State Universit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University of Texa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MOLF, Institute for Atomic and Molecular Physic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Dutch Virtual Labs for E-science project (Vl-e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workflow system Triana (University of Cardiff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Georgia State Universit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Vrije Universiteit Amsterdam (Ibis, teaching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The Multimedian project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Zuse Institute Berlin, Germany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84280" y="0"/>
            <a:ext cx="63165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000080"/>
                </a:solidFill>
                <a:latin typeface="Bitstream Vera Sans"/>
              </a:rPr>
              <a:t>Conclusion</a:t>
            </a:r>
            <a:endParaRPr b="1" i="1" lang="en-US" sz="3200" spc="-1" strike="noStrike">
              <a:solidFill>
                <a:srgbClr val="000080"/>
              </a:solidFill>
              <a:latin typeface="Bitstream Vera San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36600" y="1636200"/>
            <a:ext cx="9407520" cy="521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98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The GAT provides a simple and stable API to various Grid environments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But powerful!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Independent of grid middlewar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Portable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marL="457200" indent="-457200">
              <a:lnSpc>
                <a:spcPct val="104000"/>
              </a:lnSpc>
              <a:spcBef>
                <a:spcPts val="64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80"/>
                </a:solidFill>
                <a:latin typeface="Bitstream Vera Sans"/>
              </a:rPr>
              <a:t>Downloads:</a:t>
            </a:r>
            <a:endParaRPr b="0" lang="en-US" sz="26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Bitstream Vera Sans"/>
                <a:hlinkClick r:id="rId1"/>
              </a:rPr>
              <a:t>www.gridlab.org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 and www.cs.vu.nl/ibi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Distributions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Anonymous SVN access at gforge.cs.vu.nl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C Platforms: Linux, Windows, Mac OS X, SGI Irix, True64 UNIX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Java Platforms: any (Java 1.4 or higher)</a:t>
            </a: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‏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  <a:p>
            <a:pPr lvl="1" marL="1022400" indent="-452520">
              <a:lnSpc>
                <a:spcPct val="104000"/>
              </a:lnSpc>
              <a:spcBef>
                <a:spcPts val="499"/>
              </a:spcBef>
              <a:buClr>
                <a:srgbClr val="000080"/>
              </a:buClr>
              <a:buSzPct val="4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Bitstream Vera Sans"/>
              </a:rPr>
              <a:t>Support via mailing list gat@gridlab.org</a:t>
            </a:r>
            <a:endParaRPr b="0" lang="en-US" sz="2000" spc="-1" strike="noStrike">
              <a:solidFill>
                <a:srgbClr val="000080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rosław Nabrzyski</dc:creator>
  <dc:description/>
  <cp:keywords>JavaGAT tutorial</cp:keywords>
  <dc:language>en-US</dc:language>
  <cp:lastModifiedBy/>
  <cp:revision>0</cp:revision>
  <dc:subject/>
  <dc:title>JavaGAT tutorial</dc:title>
</cp:coreProperties>
</file>